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BCA-660B-4FBF-BA2E-FC1B4EF6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234-A945-480A-884D-174D44D4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BF6-22DC-46B3-933E-7E148AEE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80C-74BB-4F7B-A563-DECFD76A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8779-6464-4130-BA84-879F0512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2E76-F67E-4183-8A5C-0ABBE6E5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7DE0-A0EB-4957-9930-3CB5BC8D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2EB3-B22B-4D66-9FC8-5E36E2B5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9DA1-F1A9-497C-BD64-F6226A80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0A93-D83B-4939-9241-5D90D46E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0E65-6C02-47C8-9A93-24EE3B28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C90-F269-48BB-AB95-A6AE2BDE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4EAF-C985-4518-9EA0-950F0FC5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765E-9886-46FF-8CAE-7258ED55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C56C-1F67-4CAC-9E39-125E9F34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5568-204D-4740-9C16-CADC233B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9257-83FB-435B-99FC-036E973A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863-B60F-4315-A937-1FDC3CFC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F47-3321-48EF-95AC-43C44448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4F43-9965-4A97-B637-1B5DC328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AE9-4E91-4E41-A780-A61CA33B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3B7-65BB-4BA5-9283-B8EA3812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C8F-6D92-4C4E-B465-6276040D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193-25C2-4A3E-AA92-AFFAD1E4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0BC6-3692-4252-9151-0412E4F171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68E7-D69E-4321-8DD2-4DCF4002C8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How did this new learning make a difference in the lives of the children and the lives of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838080"/>
            <a:ext cx="5572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 for parent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8000" spc="-1" strike="noStrike">
                <a:solidFill>
                  <a:srgbClr val="ffff66"/>
                </a:solidFill>
                <a:latin typeface="Arial"/>
              </a:rPr>
              <a:t>Where to from here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2130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00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19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0400" y="838080"/>
            <a:ext cx="3000240" cy="3219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23880" y="41911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Z Traffic Institu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96080" cy="3047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914400" y="762120"/>
            <a:ext cx="6095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s years them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A dynamic presentation tha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‘case study’ Winton School and the implementation of RoadSense Āta Haere through the process of inquiry lear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start to interact with teachers differently in wider curriculum appl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portray LTNZ as ‘cutting edg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17960" y="1219320"/>
            <a:ext cx="3927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be presented in the context of en education conference/s in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may be used in other contexts by ot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be capable of being put on the update RoadSense Āta Haere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ill act as a catalyst for the future purchase of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380880"/>
            <a:ext cx="4657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ur presentatio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ff"/>
                </a:solidFill>
                <a:latin typeface="Arial"/>
              </a:rPr>
              <a:t>What is it like for you when you cross the ro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ff"/>
                </a:solidFill>
                <a:latin typeface="Arial"/>
              </a:rPr>
              <a:t>Tell me about a time when you felt safe on the ro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ff"/>
                </a:solidFill>
                <a:latin typeface="Arial"/>
              </a:rPr>
              <a:t>Tell us how RoadSense has changed how you think about road safety and your behaviour around roa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762120"/>
            <a:ext cx="6124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 for student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77120" y="3352680"/>
            <a:ext cx="234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What does the RoadSense Āta Haere strategy mean to schoo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Describe how the inquiry model has made a difference to RoadSense Āta Haere and Winton School?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838080"/>
            <a:ext cx="7743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 for Maureen or Andrew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460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In what ways have the tools of inquiry learning in RoadSense changed the capabilities of teachers and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685800"/>
            <a:ext cx="5572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 for Andrew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In what ways have the tools of inquiry learning in RoadSense changed the attitudes and thinking skills of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685800"/>
            <a:ext cx="481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 for staff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4495680"/>
            <a:ext cx="46483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ffff"/>
                </a:solidFill>
                <a:latin typeface="Arial"/>
              </a:rPr>
              <a:t>In what ways have the tools of inquiry learning in RoadSense changed the attitudes and thinking skills of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762120"/>
            <a:ext cx="54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 for Fento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338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06:28:51Z</dcterms:created>
  <dc:creator>Educating NZ</dc:creator>
  <dc:description/>
  <dc:language>en-US</dc:language>
  <cp:lastModifiedBy>Educating NZ</cp:lastModifiedBy>
  <dcterms:modified xsi:type="dcterms:W3CDTF">2008-08-03T23:02:42Z</dcterms:modified>
  <cp:revision>5</cp:revision>
  <dc:subject/>
  <dc:title>What’s the fuss all about?</dc:title>
</cp:coreProperties>
</file>